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7AA-0214-4510-8BFE-86B81E8E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04D-4BEB-435A-9E08-8723030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6A0-4B49-43E2-93FD-637C0B4B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6B0-06CE-405B-A6A4-F136629A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7E1-2533-4FD0-9A8D-BD218371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56B-D27F-4400-9FA4-2496118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DD5-0A09-4AF9-95F5-9B97A62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B75-44DD-43D7-A55A-0275624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CEF-AD9E-4AD3-8F76-8726E778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607-E57D-492A-8DCD-D3E9058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FE0-DA41-4751-A021-F3FF072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8AA-F80C-437C-988D-D15A160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0EC0-BD36-4A2F-84FF-8D8B5F478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38160" y="4797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75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ir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095080" y="544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520" y="54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 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8160" y="544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 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0160" y="4816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800" y="479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908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520" y="5445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405440" y="4797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8720" y="48164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88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88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n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7240" y="4797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38880" y="54450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0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5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524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42:20Z</dcterms:modified>
  <cp:revision>72</cp:revision>
  <dc:subject/>
  <dc:title>Folie 1</dc:title>
</cp:coreProperties>
</file>